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B3E-73C6-4729-87C1-C5A14791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AE4-1AEE-4291-A4D6-AA9435C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E2A-051E-4997-B8F3-15B50A6D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AC1-7F4B-40B3-925B-FB2D62A8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8592-61D5-4BBE-A2F0-499417BE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5339-90FF-4B76-B0EA-82E01FA4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D4E-2216-48BA-88BA-E45AD573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5C3-CD01-487D-9182-1281FD8D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AE20-4B6F-482E-8BC1-6C5558A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E22D-552C-46DB-ADC8-6FCF5B43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482-D11F-4367-B2A9-1283087E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686-B1F6-4FB7-9196-01B5AC78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183-FF0B-4DBA-8C2B-405D27A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89A-7B5D-45B7-9642-B107CF3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C2FC-846B-4640-B0CF-35CE3E0F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E150-E9D2-4B6B-8E42-FD23FF72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19B-2589-4FEF-8E22-6C0FF06D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D81-1AF0-41BB-8831-4C3886B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603-58D1-4FC5-B514-99DD0A2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2B7-ADCE-41B9-8CFD-925414EC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02E-8B54-4E78-A640-8007407A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FF9-186B-4FBA-886B-F64E273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1F8-E04A-4E62-9330-52AD754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3A9-143B-4BD8-BF2D-4F4D2EF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33E1-3C3C-4825-B46F-3954D3413C0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78E-FF74-48AC-AE2D-69E00A41FCA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Toussaint_L%27Ouvertur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2/26/Waterloo_campaign_map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poleon Bonaparte (1769-182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His rise to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His domestic and foreign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Map of French Empire at its Height"/>
          <p:cNvPicPr/>
          <p:nvPr/>
        </p:nvPicPr>
        <p:blipFill>
          <a:blip r:embed="rId1"/>
          <a:stretch/>
        </p:blipFill>
        <p:spPr>
          <a:xfrm>
            <a:off x="457200" y="539640"/>
            <a:ext cx="830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The Defeat of Napole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Britain always an enemy…did have a truce, bu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French troops in Haiti alarmed Britain of French ambitions in the Amer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And, his control of much of the continent meant a balance of power was upset, and so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An ultimatum sent 1803.  War declar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itian Rebell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rançois-Dominique Toussaint L'Ouvertu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as one major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eated Napoleon’s army: many were Polish and they were incorporated into Hait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3 Haiti declared a republi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ldest in Western Hemisphe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François-Dominique Toussaint L'Ouver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981080"/>
            <a:ext cx="28080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Battles and Resul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Trafalgar 18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Ulm 1805 Aust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Austerlitz 1805 Alexander I of Russia &amp; Francis II of Aust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Eylau 18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Lisbon 18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rance loses; Britain controls se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rance wins; takes over Vien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rance wins; takes northern Ita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ssia 1811-18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ipzig 181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erloo 181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4162320" cy="5238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1680" y="6095160"/>
            <a:ext cx="81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s is my beloved Son in whom I am well pleased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34480" y="1895400"/>
            <a:ext cx="271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ow would th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rtoon promo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ationalism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War in the Early 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apoleonic W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Leipzig 181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68580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Some facts on the Battle of Nations…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More than half a million m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ive armies involv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The commanding general for the Swedish army was French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ean Bernadott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Napoleon domineering leadership was part of his failure; no one could competently assume leadership independent of Napole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Napoleon loses his best trained troops; hence forward they are mostly raw recrui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Technology on the battlefield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William Congreve – the rocke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eutenant General Henry Shrapne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 – improvement in artillery.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67160" y="1752480"/>
            <a:ext cx="3876840" cy="4876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1542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Napole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Born into a poor family of lesser no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Ajaccio, Corsica.  This island had been annexed by France in 1768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Became a French artillery offic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1793 he saved Toulon from British take-o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Lead French forces to victory and take-over of most of Italy and Switzerland by 1797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Waterloo 18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8769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The battle that ended an era…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British led by Wellington for Brit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 Blucher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for Pruss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In less than one day 115,000 men lay dead on the field; 60,000 are Fren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A battle of attrition: the expendability of troops in the field for a political and military objecti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http://upload.wikimedia.org/wikipedia/en/2/26/Waterloo_campaign_map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7920" y="152280"/>
            <a:ext cx="58946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52640" y="1471680"/>
            <a:ext cx="65818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735120"/>
            <a:ext cx="8001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Key Terms for the Napoleonic Er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Napoleonic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ontinental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onfederation of the Rh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oali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onscripted arm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used the downfall of Napole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ake a position on the following question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what extent can an economic embargo be seen as an act of wa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poleon the Warri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0 victory over Austri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6 Continental System (hegemony over Europe, except Sweden, Ottoman Empire, &amp; Britai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7 Treaty of Tilsit (w/ Alexander I of Russia): Napoleon master of Eu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8 Spanish resistance (guerrilla war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tionalist movements against Fran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28638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12 War w/ Russia …oops.  Looser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corched earth  polic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13 Battle of Nations at Leipzi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14 Abdication to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lb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14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gress of Vien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15 Napoleon retur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feated at Waterlo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xiled to Saint Hele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043000"/>
            <a:ext cx="44067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Political fear: Response of Director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1797 elections give Royalists a majo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Fearing an end to the Republic anti-royalists staged a c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They imposed censorship (so much for free speech), installed their own people in the legislature (good-bye freedom of association), and exiled some of their political oppon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ba &amp; Saint Hel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1998720"/>
            <a:ext cx="4400280" cy="302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Spanish Inquisition 1478-183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35000" y="1981080"/>
            <a:ext cx="2683080" cy="198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240" y="411444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gious purity (Catholic) against non-Catholics and non-Christia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nsorshi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ulsion, torture, and execution (relaxation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poleon’s occupation ended this (temporarily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362320" y="4038480"/>
            <a:ext cx="1646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poleon was a military genius, fighting unpredictable battl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only had to defeat paid government armies.  His army initially was one of ideal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French army entered countries as liberators against autocracy and therefore were welcomed…at fir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04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he French were able to take-over European countries after defeating their armies because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reality of French liberation &amp; Why the Napoleon’s Empire Ended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poleon bled occupied territories by taxing th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ternity, equality, and egalitarianism were not experienced in the French occupied territor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 in occupied territories were conscripted into the French arm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’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ntinental system backfire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panish resisted, as did the Russi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front war: especially the invasion of Russ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istorical Analysis of Napol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tudy the two pictures.  Determine the direction a historical interpretation would follow if it were based on A or B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280" y="2200320"/>
            <a:ext cx="5029200" cy="2957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813280" y="1981080"/>
            <a:ext cx="2851200" cy="4114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43720" y="537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0280" y="613728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tion cont’d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spects of Napoleon’s career would each of these four perspectives highligh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ti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litar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cial 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your own ground rules for evaluating the success or failure of  historical figures such as Napole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Establishment of the Consulate (1799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Grossly misguided members of the Directory seeking a more powerful executive hope to control Napoleon while gaining his military suppor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He becomes First Consul and a new constitution gave him dictatorial powe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10400" y="1905120"/>
            <a:ext cx="306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What this all mean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losed the revolution in Fr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Effectively gave power to leading elements of the Third Estate (the bourgeoisi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Ended hereditary privilege; one would succeed on mer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Peasants saw an end to feudal privileg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Napoleon as First Consul: Act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Eliminates any opposition…like a good dictator should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굴림"/>
              </a:rPr>
              <a:t>Joseph Fouch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 carries this out as Minister of Poli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Censored newspapers and the theatr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68760" y="1981080"/>
            <a:ext cx="35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Exiled Jacobins to Seychelles Island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In 1802 he becomes “Consul for Lif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41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Napoleon’s Domestic Policies…your tur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each of the following Topics explain Napoleon’s Policy and What problem did it solv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 of Fr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x Ref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cord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poleonic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at’d be three columns and six row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Napoleon as Emperor: Act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In 1804 crowned himself Napoleon I Emperor of the French Empi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A conscripted army gave him a numerical advantage over any opponen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ould command up to 100,000 men in a single battle. Had 700,000 men in ar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8:43:30Z</dcterms:created>
  <dc:creator>Generic</dc:creator>
  <dc:description/>
  <dc:language>en-US</dc:language>
  <cp:lastModifiedBy>hughp</cp:lastModifiedBy>
  <dcterms:modified xsi:type="dcterms:W3CDTF">2006-09-29T18:44:39Z</dcterms:modified>
  <cp:revision>24</cp:revision>
  <dc:subject/>
  <dc:title>Napoleon Bonaparte (1769-1821)</dc:title>
</cp:coreProperties>
</file>